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339-56EB-4242-B47E-13D989DA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620-4D79-46ED-9218-31254B14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266-69B1-47FE-B44A-91DF3C2D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DC2-A8BF-4053-A283-2B484277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B35B-94C1-433B-BE84-784AD38E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C05-6287-42FB-AFAB-26A6B3CC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B36D-21CD-44D7-A61D-E8F09AA4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CCDB-3E8B-4B91-A60B-8969829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F7EE-350D-40C1-BBED-EB33B4BF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817F-F5EC-472D-A63B-4F338672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A792-E1EC-4688-B92B-C4FAE52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592-21D2-4826-8F96-C12F17B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0AD2-F4F1-423E-9C00-F349EEC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300-CC44-4980-BDBD-67AA8B9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ECE8-B863-4B3F-B847-1541D06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2FB-7DF9-4838-91E3-4A7C97B4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615D-D0F6-4FC0-918D-D99258F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6DB-1D8A-4F79-BB96-2D9DD1F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5AE-8087-4B10-8F98-786EFD1A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1AF-43CB-4D4B-B9CE-722D768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6C5-BB41-419D-AE18-0DBDC25D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7CC-BC33-4877-ACA9-AEAC95B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564-2F65-47D1-A1AB-D730E7B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BEC-32CC-4935-A04C-01BAC2A4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A8CF-D287-4B20-82DB-4649AEC1EB6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298D-D0D0-45FE-A6E3-F64344E2A8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0" y="4653000"/>
            <a:ext cx="831708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وح يجمعن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128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00720" y="-579240"/>
            <a:ext cx="4500360" cy="78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ماءُ ما صارَ الطحينُ خبزا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روح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أصبحن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ُكنى الله</a:t>
            </a:r>
            <a:r>
              <a:rPr b="1" lang="ar-LB" sz="6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88720" y="450864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-649080"/>
            <a:ext cx="900108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زيتُ ما أعطى السراجُ نوراً لولا الروحُ ما فرشنا نورَ ا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017440" y="448632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-2158560"/>
            <a:ext cx="4284720" cy="106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حبُ ما كان القلبُ حياً لولا الروحُ ما عرفنا حبّ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280" y="458136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130120" y="465300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734560"/>
            <a:ext cx="9144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نورُ ما أعطى الوردُ عطراً لولا الروحُ ما نثرنا عطر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07:32Z</dcterms:created>
  <dc:creator>Charbel Azar</dc:creator>
  <dc:description/>
  <dc:language>en-US</dc:language>
  <cp:lastModifiedBy>ف</cp:lastModifiedBy>
  <dcterms:modified xsi:type="dcterms:W3CDTF">2006-06-05T21:07:23Z</dcterms:modified>
  <cp:revision>11</cp:revision>
  <dc:subject/>
  <dc:title>Slide 1</dc:title>
</cp:coreProperties>
</file>